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41F5E-6137-48B0-AAE1-5BC220E2E2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FB478-118B-4B72-8F44-DC8F4B5EE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4C6CF-65B5-4AF6-9ECF-C3BA268F3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6D2C4-5F4A-46EF-9ADD-5E7B646860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CCB3FBF-81A8-4078-8757-532630AE19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784BDEB-4BA2-43B1-BBEB-9C5EF10AD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3B49046-6877-4055-B471-7563888845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A311500-FB5E-400F-9F0C-56B056422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BD84CD6-2A0A-40A2-A9D7-66DEE8FF9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D751E1-3526-44E6-A4FF-549CEA253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BC00CF1-ED1D-4E1F-87A8-98076391E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BB111E-2F09-492E-83CF-66A494547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24BDCF-6A79-4F61-A909-42F7D5C3F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616972-B8B4-413E-8B73-EA1A3CFD8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7192CA-2D1D-4644-AE9A-693BC951E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ABD1933-896B-46BD-A05D-9A75A135F8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735C033-0137-4C93-9499-3CD38BEACC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E261-D727-47FA-AD75-2292AC2E8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7588C-BF1B-4061-9785-F6675284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55158-1230-41C2-A235-A0376D1E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00EEF-52E5-4E47-A9C8-00D9BDF57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5FCA3-5BDF-4C81-A219-9D071560F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4955A-E247-4804-AF44-D807EB9AA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0EB30-B5AC-4F55-8E7D-6E4E44376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FB242-8C31-4F03-96C1-6A29CE50616E}"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C5182-33EF-4DA9-A953-20132E2A5C7C}" type="slidenum">
              <a:rPr b="0" lang="es-ES" sz="1200" spc="-1" strike="noStrike">
                <a:solidFill>
                  <a:srgbClr val="ffffff"/>
                </a:solidFill>
                <a:latin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rial"/>
              </a:rPr>
              <a:t>TISG</a:t>
            </a:r>
            <a:endParaRPr b="0" lang="en-US" sz="5400" spc="-1" strike="noStrike">
              <a:solidFill>
                <a:srgbClr val="e3e3ff"/>
              </a:solidFill>
              <a:latin typeface="Arial"/>
            </a:endParaRPr>
          </a:p>
        </p:txBody>
      </p:sp>
      <p:sp>
        <p:nvSpPr>
          <p:cNvPr id="122" name="PlaceHolder 2"/>
          <p:cNvSpPr>
            <a:spLocks noGrp="1"/>
          </p:cNvSpPr>
          <p:nvPr>
            <p:ph type="subTitle"/>
          </p:nvPr>
        </p:nvSpPr>
        <p:spPr>
          <a:xfrm>
            <a:off x="1182600" y="3681000"/>
            <a:ext cx="6778800" cy="1916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ucia Jimenez Smith</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Luis Enrique Vasquez</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Brandon Ledez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152280"/>
            <a:ext cx="76960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600" spc="-1" strike="noStrike">
                <a:solidFill>
                  <a:srgbClr val="ff0000"/>
                </a:solidFill>
                <a:latin typeface="Arial"/>
                <a:ea typeface="Arial"/>
              </a:rPr>
              <a:t>Escriba un ensayo corto (300 palabras) sobre el tema relacionado a las computadoras, el que a usted más le interese, y tenga implicaciones sociales y éticas.  Describa su historial; luego identifique las consecuencias, problemas, o preguntas que usted crea sean importantes.</a:t>
            </a:r>
            <a:br>
              <a:rPr sz="1600"/>
            </a:br>
            <a:endParaRPr b="0" lang="en-US" sz="1600" spc="-1" strike="noStrike">
              <a:solidFill>
                <a:srgbClr val="e3e3ff"/>
              </a:solidFill>
              <a:latin typeface="Arial"/>
            </a:endParaRPr>
          </a:p>
        </p:txBody>
      </p:sp>
      <p:sp>
        <p:nvSpPr>
          <p:cNvPr id="124" name="PlaceHolder 2"/>
          <p:cNvSpPr>
            <a:spLocks noGrp="1"/>
          </p:cNvSpPr>
          <p:nvPr>
            <p:ph/>
          </p:nvPr>
        </p:nvSpPr>
        <p:spPr>
          <a:xfrm>
            <a:off x="609480" y="1143000"/>
            <a:ext cx="7772400" cy="5105520"/>
          </a:xfrm>
          <a:prstGeom prst="rect">
            <a:avLst/>
          </a:prstGeom>
          <a:noFill/>
          <a:ln w="0">
            <a:noFill/>
          </a:ln>
        </p:spPr>
        <p:txBody>
          <a:bodyPr anchor="t">
            <a:normAutofit fontScale="96000"/>
          </a:bodyPr>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Uso de las computadoras en el mundo de la medicina</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El uso de las computadoras en el área de la medicina, en los hospitales y clínicas es un avance muy importante. El paciente se puede sentir más seguro y confiar más en los datos y los diagnósticos dados. También ayuda en la telemedicina donde expertos pueden ayudar a diagnosticar u operar a los pacientes que se encuentran en lugares muy lejos donde expertos no se encuentran disponibles.</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Antes cuando los hospitales no utilizaban sistemas computarizados, todo estaba escrito a mano y ocurrían muchos errores. Un estimado de siete mil personas morían cada año por una equivocación de medicamento por la letra ilegible del doctor en la prescripción.  El sistema  computarizado ha eliminado muchos riesgos de errores, ya que todo esta escrito en una manera legible. </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A la hora de diagnosticar a un paciente, los doctores pueden encontrar las posibles enfermedades con solo poner los síntomas y las posibilidades aparecen en segundos. Esto da un diagnostico más eficiente y seguro. También las computadoras ayudan a diagnosticar a pacientes que se encuentran en hospitales pequeños o donde no hayan expertos o accesibilidad a información confiable. Pueden mandar la información necesitada muy rápidamente o pueden llamar por medio de un video donde los expertos pueden participar en diagnosticar al paciente. </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400" spc="-1" strike="noStrike">
                <a:solidFill>
                  <a:srgbClr val="ffffff"/>
                </a:solidFill>
                <a:latin typeface="Arial"/>
                <a:ea typeface="Times New Roman"/>
              </a:rPr>
              <a:t>En muchos aspectos las computadoras han sido mejores y más confiables, pero todavía debemos preguntar que pasaría si se le mete un virus en el sistema y se borra la información o peor se hace un enredo y cambio de prescripciones. Así los pacientes pueden sufrir o morir por errores tecnológicos. Otro pregunta muy importante seria si hay una manera mas confiable sin campo para errores, para organizar la información de cada paciente, y si la hay ¿cuál es? Por ahora los avances han sido mas eficientes y muy buenos y cada día hay nuevos avances que nos lleva mas y mas cerca de un sistema mas confiable y seguro, para que todos los pacientes sean tratados con mayor eficiencia y que los doctores hagan su trabajo con mejores resultados.</a:t>
            </a:r>
            <a:endParaRPr b="0" lang="en-US" sz="1400" spc="-1" strike="noStrike">
              <a:solidFill>
                <a:srgbClr val="ffffff"/>
              </a:solidFill>
              <a:latin typeface="Arial"/>
            </a:endParaRPr>
          </a:p>
          <a:p>
            <a:pPr marL="329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609120"/>
            <a:ext cx="86868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a:solidFill>
                  <a:srgbClr val="ff0000"/>
                </a:solidFill>
                <a:latin typeface="Arial"/>
                <a:ea typeface="Arial"/>
              </a:rPr>
              <a:t>Mencione dos trabajos que han llegado a ser obsoletos por las computadoras.  Escriba dos trabajos que no existirían sin las computadoras.</a:t>
            </a:r>
            <a:br>
              <a:rPr sz="1800"/>
            </a:br>
            <a:endParaRPr b="0" lang="en-US" sz="1800" spc="-1" strike="noStrike">
              <a:solidFill>
                <a:srgbClr val="e3e3ff"/>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Dos trabajos que han sido sutituidos por las computadoras:</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os empleados de los hospitales y clinicas encargados de buscar los archivos de papelería  </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El uso de correo en los hospitales a la hora de mandar muestras ya no se ve, ahora lo manda por medio de sistmemas de alta velocidad en las computadoras.</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Dos trabajos que no existirian sin las computadoras:</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os encargados de utilizar las maquinas de pruebas que son utilizados hoy en dia en los hospitales.</a:t>
            </a:r>
            <a:endParaRPr b="0" lang="en-US" sz="1600" spc="-1" strike="noStrike">
              <a:solidFill>
                <a:srgbClr val="ffffff"/>
              </a:solidFill>
              <a:latin typeface="Arial"/>
            </a:endParaRPr>
          </a:p>
          <a:p>
            <a:pPr marL="343080" indent="-343080">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Los inventores que se estan realizando avances tecnologicos todos los dias para una mejor vida.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0000"/>
                </a:solidFill>
                <a:latin typeface="Arial"/>
                <a:ea typeface="Arial"/>
              </a:rPr>
              <a:t>Mencione tres aplicaciones de la tecnología en computación, dichas en este capítulo, que reduzcan la necesidad de transporte.  ¿Cuáles son las ventajas de tenerlas? A una de las aplicaciones escogidas descríbale una debilidad potencial o problema que se podría desarrollar.</a:t>
            </a:r>
            <a:br>
              <a:rPr sz="1600"/>
            </a:br>
            <a:endParaRPr b="0" lang="en-US" sz="16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sz="1800" spc="-1" strike="noStrike">
                <a:solidFill>
                  <a:srgbClr val="ffffff"/>
                </a:solidFill>
                <a:latin typeface="Arial"/>
              </a:rPr>
              <a:t>Enviar rayos x donde haya un radiologo entrenado para sus respectivas interpretaciones. La ventaja es que llega mas rapido que beneficia el cuidado de pacientes y elimina el costo de traslado.</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Sistemas de video para consultar especialistas en lugares donde no hayan, para que el diagnostico del paciente sea seguro y confiable.</a:t>
            </a:r>
            <a:endParaRPr b="0" lang="en-US" sz="1800" spc="-1" strike="noStrike">
              <a:solidFill>
                <a:srgbClr val="ffffff"/>
              </a:solidFill>
              <a:latin typeface="Arial"/>
            </a:endParaRPr>
          </a:p>
          <a:p>
            <a:pPr marL="343080" indent="-343080">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El sistema de mandar muestras de microscopios de un lugar a otro con mayor rapidez y menos gasto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Arial"/>
              </a:rPr>
              <a:t>  </a:t>
            </a:r>
            <a:r>
              <a:rPr b="0" lang="en-US" sz="1800" spc="-1" strike="noStrike">
                <a:solidFill>
                  <a:srgbClr val="ffffff"/>
                </a:solidFill>
                <a:latin typeface="Arial"/>
              </a:rPr>
              <a:t>    </a:t>
            </a:r>
            <a:r>
              <a:rPr b="0" sz="1800" spc="-1" strike="noStrike">
                <a:solidFill>
                  <a:srgbClr val="ffffff"/>
                </a:solidFill>
                <a:latin typeface="Arial"/>
              </a:rPr>
              <a:t>Un posible problema se podria desarrollar en la hora de consultar por video.</a:t>
            </a:r>
            <a:r>
              <a:rPr b="0" lang="en-US" sz="1800" spc="-1" strike="noStrike">
                <a:solidFill>
                  <a:srgbClr val="ffffff"/>
                </a:solidFill>
                <a:latin typeface="Arial"/>
              </a:rPr>
              <a:t> </a:t>
            </a:r>
            <a:r>
              <a:rPr b="0" sz="1800" spc="-1" strike="noStrike">
                <a:solidFill>
                  <a:srgbClr val="ffffff"/>
                </a:solidFill>
                <a:latin typeface="Arial"/>
              </a:rPr>
              <a:t>Talvez por no estar en contacto directo con el paciente puede sobre pasar sintomas o problemas graves.</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Arial"/>
              </a:rPr>
              <a:t>Describa un uso de las computadoras en el cuidado medico</a:t>
            </a:r>
            <a:r>
              <a:rPr b="0" sz="2400" spc="-1" strike="noStrike">
                <a:solidFill>
                  <a:srgbClr val="e3e3ff"/>
                </a:solidFill>
                <a:latin typeface="Arial"/>
              </a:rPr>
              <a:t>.</a:t>
            </a:r>
            <a:endParaRPr b="0" lang="en-US" sz="2400" spc="-1" strike="noStrike">
              <a:solidFill>
                <a:srgbClr val="e3e3ff"/>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ffffff"/>
                </a:solidFill>
                <a:latin typeface="Arial"/>
              </a:rPr>
              <a:t>   </a:t>
            </a:r>
            <a:r>
              <a:rPr b="0" sz="2000" spc="-1" strike="noStrike">
                <a:solidFill>
                  <a:srgbClr val="ffffff"/>
                </a:solidFill>
                <a:latin typeface="Arial"/>
              </a:rPr>
              <a:t>En la organizacion de la informacion de cada paciente. Nuevos sistemas mas eficientes y seguros, mas confiabilidad en el diagnostico dado. Menos campo para errores a la hora de dar medicina y leer la prescripcion dado por el doct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Piense sobre algunos dispositivos computarizados o programas que no existen aún, pero que usted estaría orgulloso de ayudar a crearlos.  Descríbalos.</a:t>
            </a:r>
            <a:endParaRPr b="0" lang="en-US" sz="2400" spc="-1" strike="noStrike">
              <a:solidFill>
                <a:srgbClr val="e3e3ff"/>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Un chip que se inserte en el cerebro de las personas que tienen alguna discapacidad física y que les ayude a recuperar lo que tienen dañado, como por ejemplo, alguno de los 5 senti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Mencione dos máquinas o dispositivos que existieron antes que las computadoras; de las cuales actualmente se le han insertado microprocesadores.  (Dé ejemplos que no se hayan mencionado en el texto.)</a:t>
            </a:r>
            <a:endParaRPr b="0" lang="en-US" sz="2400" spc="-1" strike="noStrike">
              <a:solidFill>
                <a:srgbClr val="e3e3ff"/>
              </a:solidFill>
              <a:latin typeface="Arial"/>
            </a:endParaRPr>
          </a:p>
        </p:txBody>
      </p:sp>
      <p:sp>
        <p:nvSpPr>
          <p:cNvPr id="134" name="PlaceHolder 2"/>
          <p:cNvSpPr>
            <a:spLocks noGrp="1"/>
          </p:cNvSpPr>
          <p:nvPr>
            <p:ph/>
          </p:nvPr>
        </p:nvSpPr>
        <p:spPr>
          <a:xfrm>
            <a:off x="357120" y="200016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La bomba de cobalto</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Los marca pas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0000"/>
                </a:solidFill>
                <a:latin typeface="Arial"/>
              </a:rPr>
              <a:t>Cuales son algunas herramientas de la computación utilizadas en el diseño de drogas</a:t>
            </a:r>
            <a:endParaRPr b="0" lang="en-US" sz="2400" spc="-1" strike="noStrike">
              <a:solidFill>
                <a:srgbClr val="e3e3ff"/>
              </a:solidFill>
              <a:latin typeface="Arial"/>
            </a:endParaRPr>
          </a:p>
        </p:txBody>
      </p:sp>
      <p:sp>
        <p:nvSpPr>
          <p:cNvPr id="136"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El diseño de drogas se da por un método que determina la estructura atómica detallada tridimensional del objetivo y el diseño de compuestos químicos específicos para inhibir, serian imposibles sin la tecnología computarizada como rayos x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8:27:45Z</dcterms:created>
  <dc:creator>Valued Customer</dc:creator>
  <dc:description/>
  <dc:language>en-US</dc:language>
  <cp:lastModifiedBy>M</cp:lastModifiedBy>
  <dcterms:modified xsi:type="dcterms:W3CDTF">2009-03-09T21:21:51Z</dcterms:modified>
  <cp:revision>9</cp:revision>
  <dc:subject/>
  <dc:title>TISG</dc:title>
</cp:coreProperties>
</file>